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2323-E8A3-460D-85EC-D22DBDA7C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EF8A-8023-4C7F-B143-ED90CA99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EDFD-E3A1-4ED8-88C7-AEDBD1EE2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0C04-C88D-41C8-AED6-BC49B39AA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90F9-0ADC-42E8-A625-10EB6630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EF6F-7258-4FB6-8906-810A6A4B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3C7B-403E-4766-904B-91723DCB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BC94-D98C-4C2B-80C5-08554B40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7933-50F3-4852-9023-96AA46B0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CE7B-11E1-47EA-9056-F1B1F0A1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2011-2314-4E1E-9122-E334D934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6FD2-B7AD-4402-A50B-0661452D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79DA-B915-4508-BF05-9D9D8929E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hildren lea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and Brain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formation processin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33520" y="1828800"/>
            <a:ext cx="266688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ve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erson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le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ymb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Multiple Intellig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457200" y="1752480"/>
            <a:ext cx="1600200" cy="609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1219320" y="24382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1219320" y="46483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276720" y="1676520"/>
            <a:ext cx="3808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n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3276720" y="1676520"/>
            <a:ext cx="380880" cy="45720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3886200" y="5334120"/>
            <a:ext cx="1676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ud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Vi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ines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3809880" y="5562720"/>
            <a:ext cx="0" cy="9144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3809880" y="55627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3809880" y="60199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3809880" y="64771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4"/>
          <p:cNvSpPr/>
          <p:nvPr/>
        </p:nvSpPr>
        <p:spPr>
          <a:xfrm>
            <a:off x="3429000" y="6248520"/>
            <a:ext cx="0" cy="152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5"/>
          <p:cNvSpPr/>
          <p:nvPr/>
        </p:nvSpPr>
        <p:spPr>
          <a:xfrm>
            <a:off x="3429000" y="6400800"/>
            <a:ext cx="3808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6"/>
          <p:cNvSpPr/>
          <p:nvPr/>
        </p:nvSpPr>
        <p:spPr>
          <a:xfrm>
            <a:off x="2133720" y="20574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4952880" y="2819520"/>
            <a:ext cx="3812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6781680" y="4114800"/>
            <a:ext cx="38124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9" descr="bd20091_"/>
          <p:cNvPicPr/>
          <p:nvPr/>
        </p:nvPicPr>
        <p:blipFill>
          <a:blip r:embed="rId1"/>
          <a:stretch/>
        </p:blipFill>
        <p:spPr>
          <a:xfrm>
            <a:off x="6850080" y="1447920"/>
            <a:ext cx="2293920" cy="2260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0" descr="bd20082_"/>
          <p:cNvPicPr/>
          <p:nvPr/>
        </p:nvPicPr>
        <p:blipFill>
          <a:blip r:embed="rId2"/>
          <a:stretch/>
        </p:blipFill>
        <p:spPr>
          <a:xfrm>
            <a:off x="7272360" y="4608360"/>
            <a:ext cx="1871640" cy="2249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1" descr="hm00388_"/>
          <p:cNvPicPr/>
          <p:nvPr/>
        </p:nvPicPr>
        <p:blipFill>
          <a:blip r:embed="rId3"/>
          <a:stretch/>
        </p:blipFill>
        <p:spPr>
          <a:xfrm>
            <a:off x="3809880" y="1371600"/>
            <a:ext cx="2081160" cy="2097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2" descr="an02122_"/>
          <p:cNvPicPr/>
          <p:nvPr/>
        </p:nvPicPr>
        <p:blipFill>
          <a:blip r:embed="rId4"/>
          <a:stretch/>
        </p:blipFill>
        <p:spPr>
          <a:xfrm>
            <a:off x="5486400" y="3276720"/>
            <a:ext cx="1749600" cy="1752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3" descr="pe00364_"/>
          <p:cNvPicPr/>
          <p:nvPr/>
        </p:nvPicPr>
        <p:blipFill>
          <a:blip r:embed="rId5"/>
          <a:stretch/>
        </p:blipFill>
        <p:spPr>
          <a:xfrm>
            <a:off x="5334120" y="5105520"/>
            <a:ext cx="1752480" cy="14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formation processin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533520" y="1828800"/>
            <a:ext cx="266688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ve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erson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le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ymb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Multiple Intellig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57200" y="1752480"/>
            <a:ext cx="1600200" cy="609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1219320" y="24382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1219320" y="46483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276720" y="1676520"/>
            <a:ext cx="3808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n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3276720" y="1676520"/>
            <a:ext cx="380880" cy="45720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3886200" y="5334120"/>
            <a:ext cx="1676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ud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Vi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ines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3809880" y="5562720"/>
            <a:ext cx="0" cy="9144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>
            <a:off x="3809880" y="55627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3809880" y="60199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3"/>
          <p:cNvSpPr/>
          <p:nvPr/>
        </p:nvSpPr>
        <p:spPr>
          <a:xfrm>
            <a:off x="3809880" y="64771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429000" y="6248520"/>
            <a:ext cx="0" cy="152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5"/>
          <p:cNvSpPr/>
          <p:nvPr/>
        </p:nvSpPr>
        <p:spPr>
          <a:xfrm>
            <a:off x="3429000" y="6400800"/>
            <a:ext cx="3808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6"/>
          <p:cNvSpPr/>
          <p:nvPr/>
        </p:nvSpPr>
        <p:spPr>
          <a:xfrm>
            <a:off x="2133720" y="20574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4495680" y="175248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8"/>
          <p:cNvSpPr/>
          <p:nvPr/>
        </p:nvSpPr>
        <p:spPr>
          <a:xfrm>
            <a:off x="4419720" y="1676520"/>
            <a:ext cx="1523880" cy="1218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6781680" y="4114800"/>
            <a:ext cx="38124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0"/>
          <p:cNvSpPr/>
          <p:nvPr/>
        </p:nvSpPr>
        <p:spPr>
          <a:xfrm>
            <a:off x="3733920" y="205740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1" descr="bd09250_"/>
          <p:cNvPicPr/>
          <p:nvPr/>
        </p:nvPicPr>
        <p:blipFill>
          <a:blip r:embed="rId1"/>
          <a:stretch/>
        </p:blipFill>
        <p:spPr>
          <a:xfrm>
            <a:off x="5410080" y="2133720"/>
            <a:ext cx="337680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formation processin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533520" y="1828800"/>
            <a:ext cx="266688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ve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erson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le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ymb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Multiple Intellig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457200" y="1752480"/>
            <a:ext cx="1600200" cy="609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5"/>
          <p:cNvSpPr/>
          <p:nvPr/>
        </p:nvSpPr>
        <p:spPr>
          <a:xfrm>
            <a:off x="1219320" y="24382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6"/>
          <p:cNvSpPr/>
          <p:nvPr/>
        </p:nvSpPr>
        <p:spPr>
          <a:xfrm>
            <a:off x="1219320" y="46483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3276720" y="1676520"/>
            <a:ext cx="3808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n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3276720" y="1676520"/>
            <a:ext cx="380880" cy="45720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3886200" y="5334120"/>
            <a:ext cx="1676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ud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Vi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ines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0"/>
          <p:cNvSpPr/>
          <p:nvPr/>
        </p:nvSpPr>
        <p:spPr>
          <a:xfrm>
            <a:off x="3809880" y="5562720"/>
            <a:ext cx="0" cy="9144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809880" y="55627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809880" y="60199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809880" y="64771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3429000" y="6248520"/>
            <a:ext cx="0" cy="152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5"/>
          <p:cNvSpPr/>
          <p:nvPr/>
        </p:nvSpPr>
        <p:spPr>
          <a:xfrm>
            <a:off x="3429000" y="6400800"/>
            <a:ext cx="3808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2133720" y="20574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495680" y="175248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8"/>
          <p:cNvSpPr/>
          <p:nvPr/>
        </p:nvSpPr>
        <p:spPr>
          <a:xfrm>
            <a:off x="4419720" y="1676520"/>
            <a:ext cx="1523880" cy="1218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4952880" y="2819520"/>
            <a:ext cx="3812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5029200" y="40384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nder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1"/>
          <p:cNvSpPr/>
          <p:nvPr/>
        </p:nvSpPr>
        <p:spPr>
          <a:xfrm>
            <a:off x="4952880" y="28954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2"/>
          <p:cNvSpPr/>
          <p:nvPr/>
        </p:nvSpPr>
        <p:spPr>
          <a:xfrm>
            <a:off x="4952880" y="4419720"/>
            <a:ext cx="19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3"/>
          <p:cNvSpPr/>
          <p:nvPr/>
        </p:nvSpPr>
        <p:spPr>
          <a:xfrm>
            <a:off x="5334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4"/>
          <p:cNvSpPr/>
          <p:nvPr/>
        </p:nvSpPr>
        <p:spPr>
          <a:xfrm>
            <a:off x="5334120" y="4114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5410080" y="4952880"/>
            <a:ext cx="28958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itical &amp;              creative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ener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6"/>
          <p:cNvSpPr/>
          <p:nvPr/>
        </p:nvSpPr>
        <p:spPr>
          <a:xfrm>
            <a:off x="5943600" y="4495680"/>
            <a:ext cx="0" cy="457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7"/>
          <p:cNvSpPr/>
          <p:nvPr/>
        </p:nvSpPr>
        <p:spPr>
          <a:xfrm>
            <a:off x="3733920" y="205740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8"/>
          <p:cNvSpPr/>
          <p:nvPr/>
        </p:nvSpPr>
        <p:spPr>
          <a:xfrm>
            <a:off x="6934320" y="4114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9" descr="pe01561_"/>
          <p:cNvPicPr/>
          <p:nvPr/>
        </p:nvPicPr>
        <p:blipFill>
          <a:blip r:embed="rId1"/>
          <a:stretch/>
        </p:blipFill>
        <p:spPr>
          <a:xfrm>
            <a:off x="6013440" y="1828800"/>
            <a:ext cx="313056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formation processin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533520" y="1828800"/>
            <a:ext cx="266688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ve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erson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le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ymb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Multiple Intellig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7200" y="1752480"/>
            <a:ext cx="1600200" cy="609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1219320" y="24382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1219320" y="46483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3276720" y="1676520"/>
            <a:ext cx="3808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n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3276720" y="1676520"/>
            <a:ext cx="380880" cy="45720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886200" y="5334120"/>
            <a:ext cx="1676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ud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Vi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ines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3809880" y="5562720"/>
            <a:ext cx="0" cy="9144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1"/>
          <p:cNvSpPr/>
          <p:nvPr/>
        </p:nvSpPr>
        <p:spPr>
          <a:xfrm>
            <a:off x="3809880" y="55627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>
            <a:off x="3809880" y="60199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3"/>
          <p:cNvSpPr/>
          <p:nvPr/>
        </p:nvSpPr>
        <p:spPr>
          <a:xfrm>
            <a:off x="3809880" y="64771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3429000" y="6248520"/>
            <a:ext cx="0" cy="152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5"/>
          <p:cNvSpPr/>
          <p:nvPr/>
        </p:nvSpPr>
        <p:spPr>
          <a:xfrm>
            <a:off x="3429000" y="6400800"/>
            <a:ext cx="3808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6"/>
          <p:cNvSpPr/>
          <p:nvPr/>
        </p:nvSpPr>
        <p:spPr>
          <a:xfrm>
            <a:off x="2133720" y="20574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4495680" y="175248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4419720" y="1676520"/>
            <a:ext cx="1523880" cy="1218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4952880" y="2819520"/>
            <a:ext cx="3812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6934320" y="3429000"/>
            <a:ext cx="1752480" cy="228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6781680" y="4114800"/>
            <a:ext cx="38124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5029200" y="40384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nder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3"/>
          <p:cNvSpPr/>
          <p:nvPr/>
        </p:nvSpPr>
        <p:spPr>
          <a:xfrm>
            <a:off x="4952880" y="28954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4"/>
          <p:cNvSpPr/>
          <p:nvPr/>
        </p:nvSpPr>
        <p:spPr>
          <a:xfrm>
            <a:off x="4952880" y="4419720"/>
            <a:ext cx="19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5"/>
          <p:cNvSpPr/>
          <p:nvPr/>
        </p:nvSpPr>
        <p:spPr>
          <a:xfrm>
            <a:off x="5334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6"/>
          <p:cNvSpPr/>
          <p:nvPr/>
        </p:nvSpPr>
        <p:spPr>
          <a:xfrm>
            <a:off x="5334120" y="4114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7"/>
          <p:cNvSpPr/>
          <p:nvPr/>
        </p:nvSpPr>
        <p:spPr>
          <a:xfrm>
            <a:off x="7162920" y="42670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8"/>
          <p:cNvSpPr/>
          <p:nvPr/>
        </p:nvSpPr>
        <p:spPr>
          <a:xfrm>
            <a:off x="5410080" y="4952880"/>
            <a:ext cx="28958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itical &amp;              creative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ener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9"/>
          <p:cNvSpPr/>
          <p:nvPr/>
        </p:nvSpPr>
        <p:spPr>
          <a:xfrm>
            <a:off x="5943600" y="4495680"/>
            <a:ext cx="0" cy="457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0"/>
          <p:cNvSpPr/>
          <p:nvPr/>
        </p:nvSpPr>
        <p:spPr>
          <a:xfrm>
            <a:off x="3733920" y="205740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1" descr="hm00350_"/>
          <p:cNvPicPr/>
          <p:nvPr/>
        </p:nvPicPr>
        <p:blipFill>
          <a:blip r:embed="rId1"/>
          <a:stretch/>
        </p:blipFill>
        <p:spPr>
          <a:xfrm>
            <a:off x="6934320" y="1447920"/>
            <a:ext cx="1601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formation processin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533520" y="1828800"/>
            <a:ext cx="266688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ve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erson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le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ymb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Multiple Intellig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457200" y="1752480"/>
            <a:ext cx="1600200" cy="609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1219320" y="24382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1219320" y="46483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3276720" y="1676520"/>
            <a:ext cx="3808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n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3276720" y="1676520"/>
            <a:ext cx="380880" cy="45720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886200" y="5334120"/>
            <a:ext cx="1676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ud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Vi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ines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3809880" y="5562720"/>
            <a:ext cx="0" cy="9144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3809880" y="55627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3809880" y="60199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3809880" y="64771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>
            <a:off x="3429000" y="6248520"/>
            <a:ext cx="0" cy="152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5"/>
          <p:cNvSpPr/>
          <p:nvPr/>
        </p:nvSpPr>
        <p:spPr>
          <a:xfrm>
            <a:off x="3429000" y="6400800"/>
            <a:ext cx="3808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6"/>
          <p:cNvSpPr/>
          <p:nvPr/>
        </p:nvSpPr>
        <p:spPr>
          <a:xfrm>
            <a:off x="2133720" y="20574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4495680" y="175248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4419720" y="1676520"/>
            <a:ext cx="1523880" cy="1218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4952880" y="2819520"/>
            <a:ext cx="3812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6934320" y="3429000"/>
            <a:ext cx="1752480" cy="228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6781680" y="4114800"/>
            <a:ext cx="38124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5029200" y="40384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nder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3"/>
          <p:cNvSpPr/>
          <p:nvPr/>
        </p:nvSpPr>
        <p:spPr>
          <a:xfrm>
            <a:off x="4952880" y="28954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"/>
          <p:cNvSpPr/>
          <p:nvPr/>
        </p:nvSpPr>
        <p:spPr>
          <a:xfrm>
            <a:off x="4952880" y="4419720"/>
            <a:ext cx="19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5"/>
          <p:cNvSpPr/>
          <p:nvPr/>
        </p:nvSpPr>
        <p:spPr>
          <a:xfrm>
            <a:off x="5334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6"/>
          <p:cNvSpPr/>
          <p:nvPr/>
        </p:nvSpPr>
        <p:spPr>
          <a:xfrm>
            <a:off x="5334120" y="4114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7162920" y="42670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8"/>
          <p:cNvSpPr/>
          <p:nvPr/>
        </p:nvSpPr>
        <p:spPr>
          <a:xfrm>
            <a:off x="6858000" y="1676520"/>
            <a:ext cx="1981080" cy="1218960"/>
          </a:xfrm>
          <a:prstGeom prst="rect">
            <a:avLst/>
          </a:prstGeom>
          <a:noFill/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6934320" y="2057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0"/>
          <p:cNvSpPr/>
          <p:nvPr/>
        </p:nvSpPr>
        <p:spPr>
          <a:xfrm flipV="1">
            <a:off x="7772400" y="2971800"/>
            <a:ext cx="0" cy="380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5410080" y="4952880"/>
            <a:ext cx="28958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itical &amp;              creative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ener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2"/>
          <p:cNvSpPr/>
          <p:nvPr/>
        </p:nvSpPr>
        <p:spPr>
          <a:xfrm>
            <a:off x="5943600" y="4495680"/>
            <a:ext cx="0" cy="457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3"/>
          <p:cNvSpPr/>
          <p:nvPr/>
        </p:nvSpPr>
        <p:spPr>
          <a:xfrm>
            <a:off x="3733920" y="205740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les for Different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 your stude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e a community of lear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 curricular 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rt sm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y points to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ted understanding perform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use of grou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- bas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bd05199_"/>
          <p:cNvPicPr/>
          <p:nvPr/>
        </p:nvPicPr>
        <p:blipFill>
          <a:blip r:embed="rId1"/>
          <a:stretch/>
        </p:blipFill>
        <p:spPr>
          <a:xfrm>
            <a:off x="1523880" y="1608120"/>
            <a:ext cx="61722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– bas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 be a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pe03240_"/>
          <p:cNvPicPr/>
          <p:nvPr/>
        </p:nvPicPr>
        <p:blipFill>
          <a:blip r:embed="rId1"/>
          <a:stretch/>
        </p:blipFill>
        <p:spPr>
          <a:xfrm>
            <a:off x="2590920" y="2514600"/>
            <a:ext cx="449892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– bas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 be 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link to e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bd07218_"/>
          <p:cNvPicPr/>
          <p:nvPr/>
        </p:nvPicPr>
        <p:blipFill>
          <a:blip r:embed="rId1"/>
          <a:stretch/>
        </p:blipFill>
        <p:spPr>
          <a:xfrm>
            <a:off x="914400" y="3124080"/>
            <a:ext cx="2562120" cy="3278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bd09264_"/>
          <p:cNvPicPr/>
          <p:nvPr/>
        </p:nvPicPr>
        <p:blipFill>
          <a:blip r:embed="rId2"/>
          <a:stretch/>
        </p:blipFill>
        <p:spPr>
          <a:xfrm>
            <a:off x="4800600" y="3429000"/>
            <a:ext cx="2976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– bas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 be 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link to e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should be contextual not iso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bd05197_"/>
          <p:cNvPicPr/>
          <p:nvPr/>
        </p:nvPicPr>
        <p:blipFill>
          <a:blip r:embed="rId1"/>
          <a:stretch/>
        </p:blipFill>
        <p:spPr>
          <a:xfrm>
            <a:off x="5029200" y="3809880"/>
            <a:ext cx="358128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– bas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 be 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link to e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should be contextual not iso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2133720" y="4191120"/>
            <a:ext cx="41907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Dep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3962520" y="4952880"/>
            <a:ext cx="2133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bd05197_"/>
          <p:cNvPicPr/>
          <p:nvPr/>
        </p:nvPicPr>
        <p:blipFill>
          <a:blip r:embed="rId1"/>
          <a:stretch/>
        </p:blipFill>
        <p:spPr>
          <a:xfrm>
            <a:off x="6248520" y="3733920"/>
            <a:ext cx="2666880" cy="21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– bas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 be 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link to e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should be contextual not iso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is filtered by                    prior knowledge and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bd06089_"/>
          <p:cNvPicPr/>
          <p:nvPr/>
        </p:nvPicPr>
        <p:blipFill>
          <a:blip r:embed="rId1"/>
          <a:stretch/>
        </p:blipFill>
        <p:spPr>
          <a:xfrm>
            <a:off x="6772320" y="3657600"/>
            <a:ext cx="2371680" cy="2514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pe02481_"/>
          <p:cNvPicPr/>
          <p:nvPr/>
        </p:nvPicPr>
        <p:blipFill>
          <a:blip r:embed="rId2"/>
          <a:stretch/>
        </p:blipFill>
        <p:spPr>
          <a:xfrm>
            <a:off x="7162920" y="0"/>
            <a:ext cx="16556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– bas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ve -I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al - I Under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know, I understand, I d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bd05112_"/>
          <p:cNvPicPr/>
          <p:nvPr/>
        </p:nvPicPr>
        <p:blipFill>
          <a:blip r:embed="rId1"/>
          <a:stretch/>
        </p:blipFill>
        <p:spPr>
          <a:xfrm>
            <a:off x="5329080" y="1523880"/>
            <a:ext cx="3814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formation processin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533520" y="1828800"/>
            <a:ext cx="266688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ve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erson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le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ymb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Multiple Intellig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457200" y="1752480"/>
            <a:ext cx="1600200" cy="609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>
            <a:off x="1219320" y="24382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1219320" y="46483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4952880" y="2819520"/>
            <a:ext cx="3812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6781680" y="4114800"/>
            <a:ext cx="38124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bd05552_"/>
          <p:cNvPicPr/>
          <p:nvPr/>
        </p:nvPicPr>
        <p:blipFill>
          <a:blip r:embed="rId1"/>
          <a:stretch/>
        </p:blipFill>
        <p:spPr>
          <a:xfrm>
            <a:off x="2486160" y="1714680"/>
            <a:ext cx="604836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04:22:53Z</dcterms:created>
  <dc:creator>Susan Baum</dc:creator>
  <dc:description/>
  <dc:language>en-US</dc:language>
  <cp:lastModifiedBy>Susan Baum</cp:lastModifiedBy>
  <dcterms:modified xsi:type="dcterms:W3CDTF">2010-04-16T11:45:53Z</dcterms:modified>
  <cp:revision>2</cp:revision>
  <dc:subject/>
  <dc:title>How children learn</dc:title>
</cp:coreProperties>
</file>